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ACD-E6A0-4A74-B8AB-6FA92BB6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EAC-BEA1-4308-A348-77D0B16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373-D1A1-434B-8FED-210AB8D2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D51-47D0-494E-88BF-E8D36437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220-9608-4C24-8D4F-EC8744E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67A-D47C-4BF8-9CFE-4ACE380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C9E-1AEB-4B50-B3BB-D8B2E7C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8B3-6917-4B10-84CE-17828A53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6B1-83E7-4074-99E5-038677D8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650-F3A8-483D-ACF5-D79A237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940-5B9D-47C9-A42C-9E76852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011-3743-4501-A790-D31FDA2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511-A8DA-462C-A0E3-CC1BE68095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29876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1120" y="1557360"/>
            <a:ext cx="64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Российские ученые- хим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12000" y="5157720"/>
            <a:ext cx="2990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Лебедев Сергей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347640" y="1483920"/>
            <a:ext cx="594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b05800"/>
                </a:solidFill>
                <a:latin typeface="Times New Roman"/>
              </a:rPr>
              <a:t>Русский химик. Основные исследования посвящены полимеризации, изомеризации и гидрогенизации непредельных соединений. С 1914г. проводил работы по изучению полимеризации диеновых углеводородов. Разработал одностадийный способ получения бутадиена-1,3, изучил процессы полимеризации его под действием металлического натр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8920" y="5444640"/>
            <a:ext cx="331308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5800"/>
                </a:solidFill>
                <a:latin typeface="Times New Roman"/>
              </a:rPr>
              <a:t>(1874-193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Лебедев Сергей Василь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34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арковников Владимир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63640" y="2492280"/>
            <a:ext cx="532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Русский химик, ученик А.М.Бутлерова, один из создателей теории строения химических соедин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544464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7–19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Картинка 3 из 22"/>
          <p:cNvPicPr/>
          <p:nvPr/>
        </p:nvPicPr>
        <p:blipFill>
          <a:blip r:embed="rId1"/>
          <a:stretch/>
        </p:blipFill>
        <p:spPr>
          <a:xfrm>
            <a:off x="179280" y="1484280"/>
            <a:ext cx="290052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енделеев Дмитрий Ива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7640" y="213372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b05800"/>
                </a:solidFill>
                <a:latin typeface="Times New Roman"/>
              </a:rPr>
              <a:t>Русский химик, открывший периодический закон химических элементов, разносторонний ученый, педагог, общественный деятель, член Союза Русского на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5444640"/>
            <a:ext cx="2737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272412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есмеянов Александр Николае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59280" y="1628280"/>
            <a:ext cx="6084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снователь научной школы по химии элементоорганических соединений, академик и президент АН СССР. Директор Института элементоорганических соединений АН СССР с 1954 (ныне имени Несмеянова). Труды по химии металлоорганических соединений. Исследовал механизм органических реакций, "cэндвичевые" cоединения, теломериз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5444640"/>
            <a:ext cx="26640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9–19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 Несмеянов, Александ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384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Monotype Corsiva"/>
              </a:rPr>
              <a:t>Семёнов Николай Николаеви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2920" y="1628280"/>
            <a:ext cx="6157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Calibri"/>
              </a:rPr>
              <a:t>Выдающийся российский химик, академик. Одновременно с англичанином С.Н. Хиншелвудом в 1926-1928гг. исследовал разветвленные цепные реакции. За эти работы в 1956 г. оба ученых были награждены Нобелевской премией. В 1936 г. основал институт Химической физики Российской академии наук, который и назван его и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544464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6–198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Картинка 2 из 146"/>
          <p:cNvPicPr/>
          <p:nvPr/>
        </p:nvPicPr>
        <p:blipFill>
          <a:blip r:embed="rId1"/>
          <a:stretch/>
        </p:blipFill>
        <p:spPr>
          <a:xfrm>
            <a:off x="179280" y="1484280"/>
            <a:ext cx="275292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Фаворский Алексей Евграф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19640" y="1628640"/>
            <a:ext cx="547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. Родился 20 февраля (3 марта) 1860 в с.Павлово Нижегородской губернии в семье священника. Учился в Нижегородской, затем Вологодской гимназии. В 1878 поступил на естественное отделение физико-математического факультета Петербургского университета, где в то время преподавали Д.И.Менделеев, А.М.Бутлеров, Н.А.Меншуткин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544464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–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Фаворский, Алексей Евграф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16728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угаев Лев Александр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56000" y="1700280"/>
            <a:ext cx="6588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Один из самых знаменитых русских химиков. Его научные работы относятся к области органической химии и химии комплексных соединений. Чугаев основал в Петрограде институт платины, создал отечественную школу химиков-неоргаников, открыл "правило циклов", одним из первых стал применять органические реактивы в аналитической химии. Он открыл реактив, носящий его имя, для количественного и качественного определения ник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5444640"/>
            <a:ext cx="2521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73-192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Чугаев Лев Александр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592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0755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утлеров Александр Михайл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09680" y="1844640"/>
            <a:ext cx="6033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химик-органик, академик Петербургской АН (187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л и обосновал теорию химического строения, согласно которой свойства веществ определяются порядком связей атомов в молекулах и их взаимным влиянием. Первым объяснил явление изомерии. Открыл полимеризацию изобутилена. Синтезировал ряд органических соединений (уротропин, полимер формальдегида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8920" y="5445000"/>
            <a:ext cx="2808360" cy="5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28—188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Картинка 1 из 72"/>
          <p:cNvPicPr/>
          <p:nvPr/>
        </p:nvPicPr>
        <p:blipFill>
          <a:blip r:embed="rId1"/>
          <a:stretch/>
        </p:blipFill>
        <p:spPr>
          <a:xfrm>
            <a:off x="179280" y="1484280"/>
            <a:ext cx="2786040" cy="3718080"/>
          </a:xfrm>
          <a:prstGeom prst="rect">
            <a:avLst/>
          </a:prstGeom>
          <a:ln w="0">
            <a:noFill/>
          </a:ln>
        </p:spPr>
      </p:pic>
    </p:spTree>
  </p:cSld>
  <p:transition spd="med" advTm="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Monotype Corsiva"/>
              </a:rPr>
              <a:t>Гесс Герман Иванови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00240" y="1428480"/>
            <a:ext cx="614376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Русский химик родился 26 июля (7 августа) 1802 в Женеве. Вместе с семьей переехал в Россию, где и прошла вся его жизнь. По окончании медицинского факультета Дерптского университета (1825) занялся химией. Окончил Стокгольмский университет. Занимался изучением химического состава и лечебного действия минеральных вод России, исследовал свойства каменной соли в залежах Иркутской губернии. Гессу было присвоено звание адъюнкта (1828), а затем – экстраординарного академика Академии наук (183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5373720"/>
            <a:ext cx="2880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02–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ess_1"/>
          <p:cNvPicPr/>
          <p:nvPr/>
        </p:nvPicPr>
        <p:blipFill>
          <a:blip r:embed="rId1"/>
          <a:stretch/>
        </p:blipFill>
        <p:spPr>
          <a:xfrm>
            <a:off x="179280" y="1484280"/>
            <a:ext cx="2820960" cy="371808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Герасимов Яков Иван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36960" y="1844640"/>
            <a:ext cx="61070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Советский физико - химик, член-корреспондент АН СССР (1953). По окончании в 1925 МГУ работал там же. Ученик профессора А. В. Раковского. Основные труды по термодинамике цветных и редких металлов и металлических сплавов. Главный редактор "Журнала физической химии" (с 1954). Председатель Научного совета по химической термодинамике и термохимии АН СССР (с 1966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920" y="537336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903—1983)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Герасимов Яков Ива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036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елинский Николай Дмитри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58920" y="2205000"/>
            <a:ext cx="578628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чательный русский химик, основоположник учения о гетерогенном органическом катализе, создатель первого в мире универсального угольного противогаза, учитель нескольких поколений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5373720"/>
            <a:ext cx="280836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1-195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Зелинский Николай Дмитри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8928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инин Николай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6360" y="1844280"/>
            <a:ext cx="597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 – органик. Научные исследования посвящены органической химии. Открыл реакцию восстановления ароматических нитросоединений, послужившую основой новой отрасли химической промышленности – анилокрасочной. Изучил свойства различных аллильных производных. Совместно с А.А. Воскресенским основал школу русских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530028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12-18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Зинин, Николай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1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патьев Владимир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71640" y="2133720"/>
            <a:ext cx="6121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дин из выдающихся химиков России. Родился в Москве; избрал военную карьеру, получив офицерское звание в 1887 г. Учился в Михайловской артиллерийской академии в Санкт-Петербурге, где позднее преподавал хим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5229360"/>
            <a:ext cx="244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7-195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Ипатьев Владими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0200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блуков Иван Алексее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76360" y="2133720"/>
            <a:ext cx="5616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Выполнил основополагающие работы в области электрохимии неводных растворов. Одновременно с В. А. Кистяковским, но независимо от него ввёл в науку представление о сольватации ион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5445000"/>
            <a:ext cx="2880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57-194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Каблуков Иван Алексе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749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урнаков Николай Семе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3280" y="1773000"/>
            <a:ext cx="5545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Занимался изучением свойств комплексных соединений, открыл целый ряд новых соединений платины, установил закономерности, позволяющие определить внутреннее строение некоторых комплексных соединений двухвалентной пла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266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-194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Курнаков Николай Семе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672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12:25Z</dcterms:created>
  <dc:creator>User</dc:creator>
  <dc:description/>
  <dc:language>en-US</dc:language>
  <cp:lastModifiedBy>Admin</cp:lastModifiedBy>
  <dcterms:modified xsi:type="dcterms:W3CDTF">2021-03-29T13:33:3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